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62FE-AA5A-4142-8BF3-5854EB5835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D1D-B909-4DC4-84BF-CEB772C325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5D292D-F302-4C83-A876-5F261135434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D768-0E00-425F-97C5-80D769072A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12A-2D97-4AEB-84B7-10FE8E9D56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571-F464-4EC2-8004-52489DA927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98A-EA96-48A2-8EBC-5C65C65FF1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6F9-0193-4374-AFAD-3766FB500E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DCE3EE1-F011-4000-B1E7-FF9011D8708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D29-B635-4364-A475-2117EFE875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9D6F-AB00-410C-80F7-39709F4EBF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511-5EAC-46DD-AC6B-44C19CF6B1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E82-731F-42E0-8374-8DC9D50A4D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85B0F13-4D0C-45A4-9C67-562E53DE4CD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62D6CBB-67F8-4D70-B6D2-65F359442CA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0C7D-484B-44FB-9F93-8049BE7242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DE01-E1D8-44C5-B69C-D321DD8796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56E-00A1-4600-971B-0E4C463531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476-2D44-416C-8F21-4B3CA108A5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65160" y="6110280"/>
            <a:ext cx="6046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c1c04"/>
                </a:solidFill>
                <a:latin typeface="Arial"/>
              </a:rPr>
              <a:t>Онкологическая Служба Р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ftr" idx="8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ftr" idx="9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ftr" idx="10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ftr" idx="1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ftr" idx="3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ftr" idx="4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ftr" idx="5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ftr" idx="6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ftr" idx="7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24000" y="28440"/>
            <a:ext cx="1857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563400" y="1947960"/>
            <a:ext cx="8315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67a7"/>
                </a:solidFill>
                <a:latin typeface="Calibri"/>
                <a:ea typeface="Tahoma"/>
              </a:rPr>
              <a:t>Информатизация Онкологической Службы Республики Татарстан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ГИС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Прямоугольник 249"/>
          <p:cNvSpPr/>
          <p:nvPr/>
        </p:nvSpPr>
        <p:spPr>
          <a:xfrm>
            <a:off x="689040" y="1044720"/>
            <a:ext cx="7765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Всего неподключенных к ГИСТу ПОК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Диаграмма 5" descr=""/>
          <p:cNvPicPr/>
          <p:nvPr/>
        </p:nvPicPr>
        <p:blipFill>
          <a:blip r:embed="rId1"/>
          <a:stretch/>
        </p:blipFill>
        <p:spPr>
          <a:xfrm>
            <a:off x="182520" y="1420920"/>
            <a:ext cx="8747280" cy="52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5743800"/>
          </a:xfrm>
          <a:prstGeom prst="rect">
            <a:avLst/>
          </a:prstGeom>
          <a:ln w="0">
            <a:noFill/>
          </a:ln>
        </p:spPr>
      </p:pic>
      <p:sp>
        <p:nvSpPr>
          <p:cNvPr id="695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Локально-вычислительная сеть ЛПУ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3" descr="C:\Users\Григорий\Downloads\map-citynames.png"/>
          <p:cNvPicPr/>
          <p:nvPr/>
        </p:nvPicPr>
        <p:blipFill>
          <a:blip r:embed="rId2"/>
          <a:stretch/>
        </p:blipFill>
        <p:spPr>
          <a:xfrm>
            <a:off x="15840" y="1100160"/>
            <a:ext cx="9128160" cy="590076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249"/>
          <p:cNvSpPr/>
          <p:nvPr/>
        </p:nvSpPr>
        <p:spPr>
          <a:xfrm>
            <a:off x="15840" y="6208560"/>
            <a:ext cx="7764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* Данные о подключении получены от сотрудников ЛПУ, актуальны на 01.03.201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Локально-вычислительная сеть ЛПУ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249"/>
          <p:cNvSpPr/>
          <p:nvPr/>
        </p:nvSpPr>
        <p:spPr>
          <a:xfrm>
            <a:off x="689040" y="1044720"/>
            <a:ext cx="7765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Всего испытывающих проблемы с ЛВС ПОК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12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Диаграмма 5" descr=""/>
          <p:cNvPicPr/>
          <p:nvPr/>
        </p:nvPicPr>
        <p:blipFill>
          <a:blip r:embed="rId1"/>
          <a:stretch/>
        </p:blipFill>
        <p:spPr>
          <a:xfrm>
            <a:off x="182520" y="1420920"/>
            <a:ext cx="8747280" cy="52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0" y="102888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704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Работа с ДЦ.Онко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Прямоугольник 249"/>
          <p:cNvSpPr/>
          <p:nvPr/>
        </p:nvSpPr>
        <p:spPr>
          <a:xfrm>
            <a:off x="15840" y="6208560"/>
            <a:ext cx="7764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* Данные о работе пользователей получены на основании отчета системы «ДЦ.Онко», актуальны на 05.02.201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3" descr="C:\Users\Григорий\Downloads\map-citynames.png"/>
          <p:cNvPicPr/>
          <p:nvPr/>
        </p:nvPicPr>
        <p:blipFill>
          <a:blip r:embed="rId2"/>
          <a:stretch/>
        </p:blipFill>
        <p:spPr>
          <a:xfrm>
            <a:off x="1440" y="843120"/>
            <a:ext cx="9128160" cy="59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Работа с ДЦ.Онко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Прямоугольник 249"/>
          <p:cNvSpPr/>
          <p:nvPr/>
        </p:nvSpPr>
        <p:spPr>
          <a:xfrm>
            <a:off x="689040" y="1044720"/>
            <a:ext cx="7765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Всего работают в системе ПОК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39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Диаграмма 5" descr=""/>
          <p:cNvPicPr/>
          <p:nvPr/>
        </p:nvPicPr>
        <p:blipFill>
          <a:blip r:embed="rId1"/>
          <a:stretch/>
        </p:blipFill>
        <p:spPr>
          <a:xfrm>
            <a:off x="182520" y="1420920"/>
            <a:ext cx="8747280" cy="52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lowchart: Terminator 7"/>
          <p:cNvSpPr/>
          <p:nvPr/>
        </p:nvSpPr>
        <p:spPr>
          <a:xfrm>
            <a:off x="0" y="-652320"/>
            <a:ext cx="9144000" cy="131904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4"/>
          <p:cNvSpPr/>
          <p:nvPr/>
        </p:nvSpPr>
        <p:spPr>
          <a:xfrm>
            <a:off x="0" y="9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став и содержание рабо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Прямоугольник 57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Группа 1"/>
          <p:cNvGrpSpPr/>
          <p:nvPr/>
        </p:nvGrpSpPr>
        <p:grpSpPr>
          <a:xfrm>
            <a:off x="857160" y="2930400"/>
            <a:ext cx="7329600" cy="998640"/>
            <a:chOff x="857160" y="2930400"/>
            <a:chExt cx="7329600" cy="998640"/>
          </a:xfrm>
        </p:grpSpPr>
        <p:sp>
          <p:nvSpPr>
            <p:cNvPr id="716" name="Прямоугольник 389"/>
            <p:cNvSpPr/>
            <p:nvPr/>
          </p:nvSpPr>
          <p:spPr>
            <a:xfrm>
              <a:off x="1976400" y="2982600"/>
              <a:ext cx="6210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4986"/>
                  </a:solidFill>
                  <a:latin typeface="Calibri"/>
                </a:rPr>
                <a:t>Состояние подключения и работы с системой онкологических отделений.</a:t>
              </a:r>
              <a:endParaRPr b="1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7" name="Picture 4" descr="C:\Users\Ildar\Documents\My Dropbox\Презентация гриши\2.png"/>
            <p:cNvPicPr/>
            <p:nvPr/>
          </p:nvPicPr>
          <p:blipFill>
            <a:blip r:embed="rId1"/>
            <a:stretch/>
          </p:blipFill>
          <p:spPr>
            <a:xfrm>
              <a:off x="857160" y="2930400"/>
              <a:ext cx="1004760" cy="998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Расположение онкологических отделени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Прямоугольник 249"/>
          <p:cNvSpPr/>
          <p:nvPr/>
        </p:nvSpPr>
        <p:spPr>
          <a:xfrm>
            <a:off x="689040" y="1044720"/>
            <a:ext cx="77659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Всего первичных и специализированных онкологических отделений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Диаграмма 1" descr=""/>
          <p:cNvPicPr/>
          <p:nvPr/>
        </p:nvPicPr>
        <p:blipFill>
          <a:blip r:embed="rId1"/>
          <a:stretch/>
        </p:blipFill>
        <p:spPr>
          <a:xfrm>
            <a:off x="182520" y="1420920"/>
            <a:ext cx="8747280" cy="52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Отделения. Обучение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249"/>
          <p:cNvSpPr/>
          <p:nvPr/>
        </p:nvSpPr>
        <p:spPr>
          <a:xfrm>
            <a:off x="312840" y="1044720"/>
            <a:ext cx="856620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В период с 27.01.2011 по 28.01.2011 было проведено обучение врачей первичных и специализированных онкологических отделений, согласно приказу №46 МЗ РТ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Все обученные получили несколько комплектов техники в составе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Монито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Принте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Диаграмма 1" descr=""/>
          <p:cNvPicPr/>
          <p:nvPr/>
        </p:nvPicPr>
        <p:blipFill>
          <a:blip r:embed="rId1"/>
          <a:stretch/>
        </p:blipFill>
        <p:spPr>
          <a:xfrm>
            <a:off x="198360" y="1579680"/>
            <a:ext cx="8747280" cy="527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Отделения. Не прошедшие обучение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74600" y="2763720"/>
          <a:ext cx="8794800" cy="665280"/>
        </p:xfrm>
        <a:graphic>
          <a:graphicData uri="http://schemas.openxmlformats.org/drawingml/2006/table">
            <a:tbl>
              <a:tblPr/>
              <a:tblGrid>
                <a:gridCol w="8794800"/>
              </a:tblGrid>
              <a:tr h="665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 «Городская детская больница № 1» г. Казан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Значение проблемы злокачественных новообразований дл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Республики Татарстан (2009 год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16080" y="3170160"/>
            <a:ext cx="434628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Население РТ</a:t>
            </a: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3 768 58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Состоит на учете ЗНО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61 481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(каждый 61-й житель РТ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Впервые выявлено случаев ЗНО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12 460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Запущенность   Одногодичная летальность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32,61%                       31.5%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67a7"/>
                </a:solidFill>
                <a:latin typeface="Arial"/>
              </a:rPr>
              <a:t>Умерли от ЗНО больны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397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6 864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2031840" y="7509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Прямоугольник 18"/>
          <p:cNvSpPr/>
          <p:nvPr/>
        </p:nvSpPr>
        <p:spPr>
          <a:xfrm>
            <a:off x="1052640" y="1508040"/>
            <a:ext cx="618840" cy="13082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оугольник 19"/>
          <p:cNvSpPr/>
          <p:nvPr/>
        </p:nvSpPr>
        <p:spPr>
          <a:xfrm>
            <a:off x="411120" y="1935000"/>
            <a:ext cx="620640" cy="881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20"/>
          <p:cNvSpPr/>
          <p:nvPr/>
        </p:nvSpPr>
        <p:spPr>
          <a:xfrm>
            <a:off x="811800" y="28843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alibri"/>
              </a:rPr>
              <a:t>1999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21"/>
          <p:cNvSpPr/>
          <p:nvPr/>
        </p:nvSpPr>
        <p:spPr>
          <a:xfrm>
            <a:off x="1163160" y="126036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Calibri"/>
              </a:rPr>
              <a:t>24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22"/>
          <p:cNvSpPr/>
          <p:nvPr/>
        </p:nvSpPr>
        <p:spPr>
          <a:xfrm>
            <a:off x="520920" y="1687680"/>
            <a:ext cx="41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174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рямоугольник 23"/>
          <p:cNvSpPr/>
          <p:nvPr/>
        </p:nvSpPr>
        <p:spPr>
          <a:xfrm>
            <a:off x="2644920" y="1200240"/>
            <a:ext cx="620640" cy="16160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24"/>
          <p:cNvSpPr/>
          <p:nvPr/>
        </p:nvSpPr>
        <p:spPr>
          <a:xfrm>
            <a:off x="2003400" y="1839960"/>
            <a:ext cx="620640" cy="9763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2404080" y="28843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alibri"/>
              </a:rPr>
              <a:t>2009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2694960" y="96192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330.6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2042640" y="15922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182.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3" descr="C:\Users\Ильдар Аюпов\Desktop\map.png"/>
          <p:cNvPicPr/>
          <p:nvPr/>
        </p:nvPicPr>
        <p:blipFill>
          <a:blip r:embed="rId1"/>
          <a:srcRect l="0" t="0" r="0" b="12113"/>
          <a:stretch/>
        </p:blipFill>
        <p:spPr>
          <a:xfrm>
            <a:off x="3627360" y="2863800"/>
            <a:ext cx="5622840" cy="3952800"/>
          </a:xfrm>
          <a:prstGeom prst="rect">
            <a:avLst/>
          </a:prstGeom>
          <a:ln w="0">
            <a:noFill/>
          </a:ln>
        </p:spPr>
      </p:pic>
      <p:sp>
        <p:nvSpPr>
          <p:cNvPr id="548" name="Line 18"/>
          <p:cNvSpPr/>
          <p:nvPr/>
        </p:nvSpPr>
        <p:spPr>
          <a:xfrm flipV="1">
            <a:off x="1238400" y="1360440"/>
            <a:ext cx="1881000" cy="324000"/>
          </a:xfrm>
          <a:prstGeom prst="line">
            <a:avLst/>
          </a:prstGeom>
          <a:ln w="57240">
            <a:solidFill>
              <a:srgbClr val="c405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9"/>
          <p:cNvSpPr/>
          <p:nvPr/>
        </p:nvSpPr>
        <p:spPr>
          <a:xfrm rot="16200000">
            <a:off x="233640" y="222408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мертность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3735360" y="1104840"/>
            <a:ext cx="53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0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ет рост заболеваемости на 33,3%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21"/>
          <p:cNvSpPr/>
          <p:nvPr/>
        </p:nvSpPr>
        <p:spPr>
          <a:xfrm rot="16200000">
            <a:off x="1822680" y="221760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мертность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22"/>
          <p:cNvSpPr/>
          <p:nvPr/>
        </p:nvSpPr>
        <p:spPr>
          <a:xfrm>
            <a:off x="3481560" y="2178000"/>
            <a:ext cx="567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967a7"/>
                </a:solidFill>
                <a:latin typeface="Arial"/>
              </a:rPr>
              <a:t>Увеличение средней продолжительности жизни  сопровождается увеличением количества онкологических заболеваний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lowchart: Terminator 15"/>
          <p:cNvSpPr/>
          <p:nvPr/>
        </p:nvSpPr>
        <p:spPr>
          <a:xfrm>
            <a:off x="14400" y="-666720"/>
            <a:ext cx="9144000" cy="14637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Группа 16"/>
          <p:cNvGrpSpPr/>
          <p:nvPr/>
        </p:nvGrpSpPr>
        <p:grpSpPr>
          <a:xfrm>
            <a:off x="-2035080" y="1488960"/>
            <a:ext cx="6858360" cy="5114880"/>
            <a:chOff x="-2035080" y="1488960"/>
            <a:chExt cx="6858360" cy="5114880"/>
          </a:xfrm>
        </p:grpSpPr>
        <p:pic>
          <p:nvPicPr>
            <p:cNvPr id="555" name="Picture 3" descr="C:\Users\Ildar\Desktop\Untitled-1.png"/>
            <p:cNvPicPr/>
            <p:nvPr/>
          </p:nvPicPr>
          <p:blipFill>
            <a:blip r:embed="rId1"/>
            <a:srcRect l="0" t="0" r="0" b="33317"/>
            <a:stretch/>
          </p:blipFill>
          <p:spPr>
            <a:xfrm>
              <a:off x="-510480" y="1488960"/>
              <a:ext cx="5333760" cy="33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3" descr="C:\Users\Ildar\Desktop\Untitled-1.png"/>
            <p:cNvPicPr/>
            <p:nvPr/>
          </p:nvPicPr>
          <p:blipFill>
            <a:blip r:embed="rId2"/>
            <a:srcRect l="0" t="69732" r="0" b="0"/>
            <a:stretch/>
          </p:blipFill>
          <p:spPr>
            <a:xfrm>
              <a:off x="-521280" y="5075640"/>
              <a:ext cx="5333760" cy="152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Rectangle 3"/>
            <p:cNvSpPr/>
            <p:nvPr/>
          </p:nvSpPr>
          <p:spPr>
            <a:xfrm>
              <a:off x="-2035080" y="265536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15"/>
            <p:cNvSpPr/>
            <p:nvPr/>
          </p:nvSpPr>
          <p:spPr>
            <a:xfrm>
              <a:off x="944640" y="4294080"/>
              <a:ext cx="23176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Первичные 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онкологические кабинеты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17"/>
            <p:cNvSpPr/>
            <p:nvPr/>
          </p:nvSpPr>
          <p:spPr>
            <a:xfrm>
              <a:off x="1179720" y="3390840"/>
              <a:ext cx="2066760" cy="14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тационарные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,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Межмуниципальные 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отделения  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Rectangle 18"/>
            <p:cNvSpPr/>
            <p:nvPr/>
          </p:nvSpPr>
          <p:spPr>
            <a:xfrm>
              <a:off x="539640" y="5288040"/>
              <a:ext cx="3125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ФАПы,  смотровые кабинеты,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врачи общей практики, 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врачи-участковые.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23"/>
            <p:cNvSpPr/>
            <p:nvPr/>
          </p:nvSpPr>
          <p:spPr>
            <a:xfrm>
              <a:off x="1781280" y="2403360"/>
              <a:ext cx="77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РКОД</a:t>
              </a:r>
              <a:endParaRPr b="1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Прямая соединительная линия 30"/>
            <p:cNvSpPr/>
            <p:nvPr/>
          </p:nvSpPr>
          <p:spPr>
            <a:xfrm>
              <a:off x="995400" y="4114800"/>
              <a:ext cx="2303280" cy="1440"/>
            </a:xfrm>
            <a:prstGeom prst="line">
              <a:avLst/>
            </a:prstGeom>
            <a:ln w="3240">
              <a:solidFill>
                <a:srgbClr val="00498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Прямая соединительная линия 31"/>
            <p:cNvSpPr/>
            <p:nvPr/>
          </p:nvSpPr>
          <p:spPr>
            <a:xfrm>
              <a:off x="1570320" y="2846160"/>
              <a:ext cx="1152360" cy="1440"/>
            </a:xfrm>
            <a:prstGeom prst="line">
              <a:avLst/>
            </a:prstGeom>
            <a:ln w="3240">
              <a:solidFill>
                <a:srgbClr val="00498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14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стема онкологической помощ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З СР РФ от 3.12.09 №944н)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Группа 17"/>
          <p:cNvGrpSpPr/>
          <p:nvPr/>
        </p:nvGrpSpPr>
        <p:grpSpPr>
          <a:xfrm>
            <a:off x="3465360" y="1474920"/>
            <a:ext cx="6142320" cy="5472000"/>
            <a:chOff x="3465360" y="1474920"/>
            <a:chExt cx="6142320" cy="5472000"/>
          </a:xfrm>
        </p:grpSpPr>
        <p:pic>
          <p:nvPicPr>
            <p:cNvPr id="566" name="Picture 2" descr="C:\Users\Ильдар Аюпов\Documents\My Dropbox\Презентация гриши\map-sliced.png"/>
            <p:cNvPicPr/>
            <p:nvPr/>
          </p:nvPicPr>
          <p:blipFill>
            <a:blip r:embed="rId3"/>
            <a:stretch/>
          </p:blipFill>
          <p:spPr>
            <a:xfrm>
              <a:off x="3465360" y="1474920"/>
              <a:ext cx="614232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6"/>
            <p:cNvSpPr/>
            <p:nvPr/>
          </p:nvSpPr>
          <p:spPr>
            <a:xfrm>
              <a:off x="3791160" y="2190600"/>
              <a:ext cx="11412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4281120" y="4731480"/>
              <a:ext cx="132840" cy="1461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Oval 11"/>
            <p:cNvSpPr/>
            <p:nvPr/>
          </p:nvSpPr>
          <p:spPr>
            <a:xfrm>
              <a:off x="7440120" y="3604680"/>
              <a:ext cx="172080" cy="19512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0" name="Group 15" descr=""/>
            <p:cNvPicPr/>
            <p:nvPr/>
          </p:nvPicPr>
          <p:blipFill>
            <a:blip r:embed="rId4"/>
            <a:stretch/>
          </p:blipFill>
          <p:spPr>
            <a:xfrm>
              <a:off x="7626240" y="4547880"/>
              <a:ext cx="26820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Group 18" descr=""/>
            <p:cNvPicPr/>
            <p:nvPr/>
          </p:nvPicPr>
          <p:blipFill>
            <a:blip r:embed="rId5"/>
            <a:stretch/>
          </p:blipFill>
          <p:spPr>
            <a:xfrm>
              <a:off x="7742160" y="3383280"/>
              <a:ext cx="2682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oup 22" descr=""/>
            <p:cNvPicPr/>
            <p:nvPr/>
          </p:nvPicPr>
          <p:blipFill>
            <a:blip r:embed="rId6"/>
            <a:stretch/>
          </p:blipFill>
          <p:spPr>
            <a:xfrm>
              <a:off x="6327720" y="3998880"/>
              <a:ext cx="2682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Group 26" descr=""/>
            <p:cNvPicPr/>
            <p:nvPr/>
          </p:nvPicPr>
          <p:blipFill>
            <a:blip r:embed="rId7"/>
            <a:stretch/>
          </p:blipFill>
          <p:spPr>
            <a:xfrm>
              <a:off x="4236480" y="4681800"/>
              <a:ext cx="2682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Group 30" descr=""/>
            <p:cNvPicPr/>
            <p:nvPr/>
          </p:nvPicPr>
          <p:blipFill>
            <a:blip r:embed="rId8"/>
            <a:stretch/>
          </p:blipFill>
          <p:spPr>
            <a:xfrm>
              <a:off x="7382160" y="3596760"/>
              <a:ext cx="26820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Line 38"/>
            <p:cNvSpPr/>
            <p:nvPr/>
          </p:nvSpPr>
          <p:spPr>
            <a:xfrm flipH="1" flipV="1">
              <a:off x="5572080" y="3701880"/>
              <a:ext cx="846000" cy="44100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Line 39"/>
            <p:cNvSpPr/>
            <p:nvPr/>
          </p:nvSpPr>
          <p:spPr>
            <a:xfrm flipV="1">
              <a:off x="7662960" y="4829400"/>
              <a:ext cx="88560" cy="3441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40"/>
            <p:cNvSpPr/>
            <p:nvPr/>
          </p:nvSpPr>
          <p:spPr>
            <a:xfrm flipH="1" flipV="1">
              <a:off x="7839360" y="4829400"/>
              <a:ext cx="225360" cy="3441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41"/>
            <p:cNvSpPr/>
            <p:nvPr/>
          </p:nvSpPr>
          <p:spPr>
            <a:xfrm flipH="1" flipV="1">
              <a:off x="7840440" y="4779720"/>
              <a:ext cx="579240" cy="2458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42"/>
            <p:cNvSpPr/>
            <p:nvPr/>
          </p:nvSpPr>
          <p:spPr>
            <a:xfrm flipH="1">
              <a:off x="7840800" y="4437000"/>
              <a:ext cx="490320" cy="1458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43"/>
            <p:cNvSpPr/>
            <p:nvPr/>
          </p:nvSpPr>
          <p:spPr>
            <a:xfrm>
              <a:off x="7351920" y="4633920"/>
              <a:ext cx="266400" cy="489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44"/>
            <p:cNvSpPr/>
            <p:nvPr/>
          </p:nvSpPr>
          <p:spPr>
            <a:xfrm flipV="1">
              <a:off x="7396200" y="3897360"/>
              <a:ext cx="88560" cy="3441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45"/>
            <p:cNvSpPr/>
            <p:nvPr/>
          </p:nvSpPr>
          <p:spPr>
            <a:xfrm flipV="1">
              <a:off x="7128000" y="3800520"/>
              <a:ext cx="266400" cy="1476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46"/>
            <p:cNvSpPr/>
            <p:nvPr/>
          </p:nvSpPr>
          <p:spPr>
            <a:xfrm>
              <a:off x="7662960" y="3164040"/>
              <a:ext cx="152280" cy="2332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47"/>
            <p:cNvSpPr/>
            <p:nvPr/>
          </p:nvSpPr>
          <p:spPr>
            <a:xfrm flipH="1">
              <a:off x="7929720" y="3065400"/>
              <a:ext cx="134640" cy="3427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48"/>
            <p:cNvSpPr/>
            <p:nvPr/>
          </p:nvSpPr>
          <p:spPr>
            <a:xfrm flipH="1" flipV="1">
              <a:off x="8025120" y="3579480"/>
              <a:ext cx="528480" cy="2696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49"/>
            <p:cNvSpPr/>
            <p:nvPr/>
          </p:nvSpPr>
          <p:spPr>
            <a:xfrm flipH="1" flipV="1">
              <a:off x="7572600" y="3897000"/>
              <a:ext cx="134640" cy="2458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Line 50"/>
            <p:cNvSpPr/>
            <p:nvPr/>
          </p:nvSpPr>
          <p:spPr>
            <a:xfrm flipH="1">
              <a:off x="7973640" y="3114720"/>
              <a:ext cx="399960" cy="3427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51"/>
            <p:cNvSpPr/>
            <p:nvPr/>
          </p:nvSpPr>
          <p:spPr>
            <a:xfrm flipV="1">
              <a:off x="5883120" y="4241880"/>
              <a:ext cx="488880" cy="6364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52"/>
            <p:cNvSpPr/>
            <p:nvPr/>
          </p:nvSpPr>
          <p:spPr>
            <a:xfrm>
              <a:off x="7440840" y="3359160"/>
              <a:ext cx="44280" cy="2458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Line 53"/>
            <p:cNvSpPr/>
            <p:nvPr/>
          </p:nvSpPr>
          <p:spPr>
            <a:xfrm>
              <a:off x="7040520" y="3556080"/>
              <a:ext cx="344520" cy="1490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56"/>
            <p:cNvSpPr/>
            <p:nvPr/>
          </p:nvSpPr>
          <p:spPr>
            <a:xfrm flipV="1">
              <a:off x="6418080" y="4290840"/>
              <a:ext cx="42840" cy="8823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Line 57"/>
            <p:cNvSpPr/>
            <p:nvPr/>
          </p:nvSpPr>
          <p:spPr>
            <a:xfrm flipH="1" flipV="1">
              <a:off x="6549480" y="4241880"/>
              <a:ext cx="401400" cy="6364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ine 58"/>
            <p:cNvSpPr/>
            <p:nvPr/>
          </p:nvSpPr>
          <p:spPr>
            <a:xfrm flipV="1">
              <a:off x="4154400" y="4927680"/>
              <a:ext cx="128520" cy="1555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60"/>
            <p:cNvSpPr/>
            <p:nvPr/>
          </p:nvSpPr>
          <p:spPr>
            <a:xfrm flipH="1" flipV="1">
              <a:off x="4458960" y="4927320"/>
              <a:ext cx="434880" cy="824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Line 61"/>
            <p:cNvSpPr/>
            <p:nvPr/>
          </p:nvSpPr>
          <p:spPr>
            <a:xfrm flipV="1">
              <a:off x="6016680" y="4143240"/>
              <a:ext cx="311040" cy="982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Line 62"/>
            <p:cNvSpPr/>
            <p:nvPr/>
          </p:nvSpPr>
          <p:spPr>
            <a:xfrm flipH="1">
              <a:off x="4414320" y="4156200"/>
              <a:ext cx="231480" cy="5270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Line 63"/>
            <p:cNvSpPr/>
            <p:nvPr/>
          </p:nvSpPr>
          <p:spPr>
            <a:xfrm flipV="1">
              <a:off x="5259240" y="3800160"/>
              <a:ext cx="134640" cy="7347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Line 64"/>
            <p:cNvSpPr/>
            <p:nvPr/>
          </p:nvSpPr>
          <p:spPr>
            <a:xfrm flipH="1">
              <a:off x="4485600" y="4559400"/>
              <a:ext cx="501480" cy="2268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Line 65"/>
            <p:cNvSpPr/>
            <p:nvPr/>
          </p:nvSpPr>
          <p:spPr>
            <a:xfrm flipH="1">
              <a:off x="5482800" y="2819520"/>
              <a:ext cx="42840" cy="4410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Line 66"/>
            <p:cNvSpPr/>
            <p:nvPr/>
          </p:nvSpPr>
          <p:spPr>
            <a:xfrm>
              <a:off x="4905360" y="3359160"/>
              <a:ext cx="266400" cy="982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Line 67"/>
            <p:cNvSpPr/>
            <p:nvPr/>
          </p:nvSpPr>
          <p:spPr>
            <a:xfrm>
              <a:off x="5127480" y="3114720"/>
              <a:ext cx="133200" cy="1951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69"/>
            <p:cNvSpPr/>
            <p:nvPr/>
          </p:nvSpPr>
          <p:spPr>
            <a:xfrm flipH="1" flipV="1">
              <a:off x="5483160" y="3800160"/>
              <a:ext cx="88560" cy="6872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3" name="Group 71" descr=""/>
            <p:cNvPicPr/>
            <p:nvPr/>
          </p:nvPicPr>
          <p:blipFill>
            <a:blip r:embed="rId9"/>
            <a:stretch/>
          </p:blipFill>
          <p:spPr>
            <a:xfrm>
              <a:off x="5748480" y="2773800"/>
              <a:ext cx="26820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Line 74"/>
            <p:cNvSpPr/>
            <p:nvPr/>
          </p:nvSpPr>
          <p:spPr>
            <a:xfrm>
              <a:off x="5562360" y="2695680"/>
              <a:ext cx="198360" cy="1555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Line 75"/>
            <p:cNvSpPr/>
            <p:nvPr/>
          </p:nvSpPr>
          <p:spPr>
            <a:xfrm flipV="1">
              <a:off x="5749920" y="3046320"/>
              <a:ext cx="63360" cy="1173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Line 76"/>
            <p:cNvSpPr/>
            <p:nvPr/>
          </p:nvSpPr>
          <p:spPr>
            <a:xfrm flipV="1">
              <a:off x="4368600" y="4975200"/>
              <a:ext cx="0" cy="1411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77"/>
            <p:cNvSpPr/>
            <p:nvPr/>
          </p:nvSpPr>
          <p:spPr>
            <a:xfrm flipH="1">
              <a:off x="4489200" y="4407120"/>
              <a:ext cx="396720" cy="3427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78"/>
            <p:cNvSpPr/>
            <p:nvPr/>
          </p:nvSpPr>
          <p:spPr>
            <a:xfrm flipV="1">
              <a:off x="4082760" y="4902480"/>
              <a:ext cx="166680" cy="1173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Line 83"/>
            <p:cNvSpPr/>
            <p:nvPr/>
          </p:nvSpPr>
          <p:spPr>
            <a:xfrm flipH="1">
              <a:off x="6009840" y="2841480"/>
              <a:ext cx="384120" cy="489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Line 84"/>
            <p:cNvSpPr/>
            <p:nvPr/>
          </p:nvSpPr>
          <p:spPr>
            <a:xfrm flipH="1" flipV="1">
              <a:off x="5905440" y="3073320"/>
              <a:ext cx="18720" cy="1584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85"/>
            <p:cNvSpPr/>
            <p:nvPr/>
          </p:nvSpPr>
          <p:spPr>
            <a:xfrm>
              <a:off x="5727600" y="2540160"/>
              <a:ext cx="101520" cy="2332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86"/>
            <p:cNvSpPr/>
            <p:nvPr/>
          </p:nvSpPr>
          <p:spPr>
            <a:xfrm flipV="1">
              <a:off x="5605200" y="2951280"/>
              <a:ext cx="142560" cy="648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88"/>
            <p:cNvSpPr/>
            <p:nvPr/>
          </p:nvSpPr>
          <p:spPr>
            <a:xfrm flipH="1" flipV="1">
              <a:off x="6518160" y="4143600"/>
              <a:ext cx="444240" cy="3441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89"/>
            <p:cNvSpPr/>
            <p:nvPr/>
          </p:nvSpPr>
          <p:spPr>
            <a:xfrm flipH="1" flipV="1">
              <a:off x="6487560" y="4190760"/>
              <a:ext cx="222120" cy="8823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90"/>
            <p:cNvSpPr/>
            <p:nvPr/>
          </p:nvSpPr>
          <p:spPr>
            <a:xfrm flipV="1">
              <a:off x="6105600" y="4299120"/>
              <a:ext cx="307800" cy="7747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95"/>
            <p:cNvSpPr/>
            <p:nvPr/>
          </p:nvSpPr>
          <p:spPr>
            <a:xfrm flipV="1">
              <a:off x="5883120" y="4143240"/>
              <a:ext cx="533160" cy="4395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96"/>
            <p:cNvSpPr/>
            <p:nvPr/>
          </p:nvSpPr>
          <p:spPr>
            <a:xfrm>
              <a:off x="7174080" y="3325680"/>
              <a:ext cx="257040" cy="3031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98"/>
            <p:cNvSpPr/>
            <p:nvPr/>
          </p:nvSpPr>
          <p:spPr>
            <a:xfrm flipH="1" flipV="1">
              <a:off x="7796160" y="4858920"/>
              <a:ext cx="47520" cy="4395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99"/>
            <p:cNvSpPr/>
            <p:nvPr/>
          </p:nvSpPr>
          <p:spPr>
            <a:xfrm flipV="1">
              <a:off x="7477200" y="4797360"/>
              <a:ext cx="176040" cy="1965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100"/>
            <p:cNvSpPr/>
            <p:nvPr/>
          </p:nvSpPr>
          <p:spPr>
            <a:xfrm flipV="1">
              <a:off x="7210440" y="3785760"/>
              <a:ext cx="266400" cy="43956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101"/>
            <p:cNvSpPr/>
            <p:nvPr/>
          </p:nvSpPr>
          <p:spPr>
            <a:xfrm flipH="1" flipV="1">
              <a:off x="7529400" y="3800160"/>
              <a:ext cx="44280" cy="5396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102"/>
            <p:cNvSpPr/>
            <p:nvPr/>
          </p:nvSpPr>
          <p:spPr>
            <a:xfrm>
              <a:off x="7572600" y="4419720"/>
              <a:ext cx="133200" cy="1476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103"/>
            <p:cNvSpPr/>
            <p:nvPr/>
          </p:nvSpPr>
          <p:spPr>
            <a:xfrm>
              <a:off x="7396200" y="3233880"/>
              <a:ext cx="444240" cy="24588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104"/>
            <p:cNvSpPr/>
            <p:nvPr/>
          </p:nvSpPr>
          <p:spPr>
            <a:xfrm flipH="1">
              <a:off x="7917120" y="3092400"/>
              <a:ext cx="311040" cy="3902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105"/>
            <p:cNvSpPr/>
            <p:nvPr/>
          </p:nvSpPr>
          <p:spPr>
            <a:xfrm>
              <a:off x="7840800" y="3114720"/>
              <a:ext cx="44280" cy="3427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117"/>
            <p:cNvSpPr/>
            <p:nvPr/>
          </p:nvSpPr>
          <p:spPr>
            <a:xfrm flipV="1">
              <a:off x="4803480" y="3605400"/>
              <a:ext cx="455400" cy="3283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119"/>
            <p:cNvSpPr/>
            <p:nvPr/>
          </p:nvSpPr>
          <p:spPr>
            <a:xfrm>
              <a:off x="5253840" y="3296160"/>
              <a:ext cx="355680" cy="406080"/>
            </a:xfrm>
            <a:custGeom>
              <a:avLst/>
              <a:gdLst>
                <a:gd name="textAreaLeft" fmla="*/ 51840 w 355680"/>
                <a:gd name="textAreaRight" fmla="*/ 303840 w 355680"/>
                <a:gd name="textAreaTop" fmla="*/ 59400 h 406080"/>
                <a:gd name="textAreaBottom" fmla="*/ 34668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val 120"/>
            <p:cNvSpPr/>
            <p:nvPr/>
          </p:nvSpPr>
          <p:spPr>
            <a:xfrm>
              <a:off x="5298840" y="3349800"/>
              <a:ext cx="266760" cy="29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35"/>
            <p:cNvSpPr/>
            <p:nvPr/>
          </p:nvSpPr>
          <p:spPr>
            <a:xfrm flipV="1">
              <a:off x="4414680" y="3652560"/>
              <a:ext cx="934920" cy="112716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92"/>
            <p:cNvSpPr/>
            <p:nvPr/>
          </p:nvSpPr>
          <p:spPr>
            <a:xfrm>
              <a:off x="5260680" y="2870280"/>
              <a:ext cx="133200" cy="5378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93"/>
            <p:cNvSpPr/>
            <p:nvPr/>
          </p:nvSpPr>
          <p:spPr>
            <a:xfrm flipV="1">
              <a:off x="4803480" y="3555720"/>
              <a:ext cx="501480" cy="918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37"/>
            <p:cNvSpPr/>
            <p:nvPr/>
          </p:nvSpPr>
          <p:spPr>
            <a:xfrm flipH="1" flipV="1">
              <a:off x="5525640" y="3605400"/>
              <a:ext cx="2225880" cy="107784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36"/>
            <p:cNvSpPr/>
            <p:nvPr/>
          </p:nvSpPr>
          <p:spPr>
            <a:xfrm flipH="1" flipV="1">
              <a:off x="5526000" y="3556080"/>
              <a:ext cx="1959120" cy="1951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54"/>
            <p:cNvSpPr/>
            <p:nvPr/>
          </p:nvSpPr>
          <p:spPr>
            <a:xfrm flipH="1" flipV="1">
              <a:off x="5526000" y="3408120"/>
              <a:ext cx="2314800" cy="9684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82"/>
            <p:cNvSpPr/>
            <p:nvPr/>
          </p:nvSpPr>
          <p:spPr>
            <a:xfrm flipV="1">
              <a:off x="5394240" y="3652560"/>
              <a:ext cx="44280" cy="83484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Line 94"/>
            <p:cNvSpPr/>
            <p:nvPr/>
          </p:nvSpPr>
          <p:spPr>
            <a:xfrm flipV="1">
              <a:off x="5126040" y="3652560"/>
              <a:ext cx="268200" cy="7254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Line 106"/>
            <p:cNvSpPr/>
            <p:nvPr/>
          </p:nvSpPr>
          <p:spPr>
            <a:xfrm>
              <a:off x="5038560" y="3309840"/>
              <a:ext cx="266400" cy="14760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Line 87"/>
            <p:cNvSpPr/>
            <p:nvPr/>
          </p:nvSpPr>
          <p:spPr>
            <a:xfrm flipH="1" flipV="1">
              <a:off x="5483160" y="3652920"/>
              <a:ext cx="266400" cy="637920"/>
            </a:xfrm>
            <a:prstGeom prst="line">
              <a:avLst/>
            </a:prstGeom>
            <a:ln w="1584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Прямоугольник 249"/>
          <p:cNvSpPr/>
          <p:nvPr/>
        </p:nvSpPr>
        <p:spPr>
          <a:xfrm>
            <a:off x="2506680" y="635040"/>
            <a:ext cx="6740640" cy="26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Специализированных  диспансеров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Межмуниципальных онкологических отделений :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Первичных онкологических кабинетов и отделений: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4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lowchart: Terminator 57"/>
          <p:cNvSpPr/>
          <p:nvPr/>
        </p:nvSpPr>
        <p:spPr>
          <a:xfrm>
            <a:off x="0" y="-977760"/>
            <a:ext cx="9144000" cy="196848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53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Автоматизация онкологической службы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ршрутизаци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Скругленный прямоугольник 26"/>
          <p:cNvGrpSpPr/>
          <p:nvPr/>
        </p:nvGrpSpPr>
        <p:grpSpPr>
          <a:xfrm>
            <a:off x="1390680" y="4516560"/>
            <a:ext cx="6478560" cy="1560240"/>
            <a:chOff x="1390680" y="4516560"/>
            <a:chExt cx="6478560" cy="1560240"/>
          </a:xfrm>
        </p:grpSpPr>
        <p:pic>
          <p:nvPicPr>
            <p:cNvPr id="643" name="Скругленный прямоугольник 26" descr=""/>
            <p:cNvPicPr/>
            <p:nvPr/>
          </p:nvPicPr>
          <p:blipFill>
            <a:blip r:embed="rId1"/>
            <a:stretch/>
          </p:blipFill>
          <p:spPr>
            <a:xfrm>
              <a:off x="1390680" y="4516560"/>
              <a:ext cx="647856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1514520" y="4618080"/>
              <a:ext cx="623088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5" name="Picture 10" descr="C:\Users\Ильдар Аюпов\Documents\Downloads\1274775927_stethoscope.png"/>
          <p:cNvPicPr/>
          <p:nvPr/>
        </p:nvPicPr>
        <p:blipFill>
          <a:blip r:embed="rId2"/>
          <a:stretch/>
        </p:blipFill>
        <p:spPr>
          <a:xfrm>
            <a:off x="1665360" y="4751280"/>
            <a:ext cx="969840" cy="970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46" name="Прямоугольник 68"/>
          <p:cNvSpPr/>
          <p:nvPr/>
        </p:nvSpPr>
        <p:spPr>
          <a:xfrm>
            <a:off x="2843280" y="476568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986"/>
                </a:solidFill>
                <a:latin typeface="Calibri"/>
              </a:rPr>
              <a:t>Онкологические кабинеты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Прямоугольник 69"/>
          <p:cNvSpPr/>
          <p:nvPr/>
        </p:nvSpPr>
        <p:spPr>
          <a:xfrm>
            <a:off x="2898000" y="51246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986"/>
                </a:solidFill>
                <a:latin typeface="Calibri"/>
              </a:rPr>
              <a:t>Раннее выявление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Скругленный прямоугольник 70"/>
          <p:cNvGrpSpPr/>
          <p:nvPr/>
        </p:nvGrpSpPr>
        <p:grpSpPr>
          <a:xfrm>
            <a:off x="1938240" y="2876400"/>
            <a:ext cx="5383440" cy="1562400"/>
            <a:chOff x="1938240" y="2876400"/>
            <a:chExt cx="5383440" cy="1562400"/>
          </a:xfrm>
        </p:grpSpPr>
        <p:pic>
          <p:nvPicPr>
            <p:cNvPr id="649" name="Скругленный прямоугольник 70" descr=""/>
            <p:cNvPicPr/>
            <p:nvPr/>
          </p:nvPicPr>
          <p:blipFill>
            <a:blip r:embed="rId3"/>
            <a:stretch/>
          </p:blipFill>
          <p:spPr>
            <a:xfrm>
              <a:off x="1938240" y="2876400"/>
              <a:ext cx="538344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063880" y="2976480"/>
              <a:ext cx="513216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Прямоугольник 72"/>
          <p:cNvSpPr/>
          <p:nvPr/>
        </p:nvSpPr>
        <p:spPr>
          <a:xfrm>
            <a:off x="3902040" y="3448080"/>
            <a:ext cx="1852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986"/>
                </a:solidFill>
                <a:latin typeface="Calibri"/>
              </a:rPr>
              <a:t>Межмуниципальное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986"/>
                </a:solidFill>
                <a:latin typeface="Calibri"/>
              </a:rPr>
              <a:t>онкоотделение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Прямоугольник 73"/>
          <p:cNvSpPr/>
          <p:nvPr/>
        </p:nvSpPr>
        <p:spPr>
          <a:xfrm>
            <a:off x="3822480" y="3898800"/>
            <a:ext cx="204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4986"/>
                </a:solidFill>
                <a:latin typeface="Calibri"/>
              </a:rPr>
              <a:t>Уточняющая диагностика.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4986"/>
                </a:solidFill>
                <a:latin typeface="Calibri"/>
              </a:rPr>
              <a:t>Амбулаторное лечение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9" descr="C:\Users\iayupov\Desktop\1.png"/>
          <p:cNvPicPr/>
          <p:nvPr/>
        </p:nvPicPr>
        <p:blipFill>
          <a:blip r:embed="rId4"/>
          <a:stretch/>
        </p:blipFill>
        <p:spPr>
          <a:xfrm>
            <a:off x="2263680" y="3137040"/>
            <a:ext cx="12542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54" name="Скругленный прямоугольник 74"/>
          <p:cNvGrpSpPr/>
          <p:nvPr/>
        </p:nvGrpSpPr>
        <p:grpSpPr>
          <a:xfrm>
            <a:off x="2498760" y="1200240"/>
            <a:ext cx="4236840" cy="1562040"/>
            <a:chOff x="2498760" y="1200240"/>
            <a:chExt cx="4236840" cy="1562040"/>
          </a:xfrm>
        </p:grpSpPr>
        <p:pic>
          <p:nvPicPr>
            <p:cNvPr id="655" name="Скругленный прямоугольник 74" descr=""/>
            <p:cNvPicPr/>
            <p:nvPr/>
          </p:nvPicPr>
          <p:blipFill>
            <a:blip r:embed="rId5"/>
            <a:stretch/>
          </p:blipFill>
          <p:spPr>
            <a:xfrm>
              <a:off x="2498760" y="1200240"/>
              <a:ext cx="423684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2624040" y="1301760"/>
              <a:ext cx="39895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7" name="Picture 7" descr="C:\Users\iayupov\Desktop\1175515573957658989.png"/>
          <p:cNvPicPr/>
          <p:nvPr/>
        </p:nvPicPr>
        <p:blipFill>
          <a:blip r:embed="rId6"/>
          <a:stretch/>
        </p:blipFill>
        <p:spPr>
          <a:xfrm>
            <a:off x="2743200" y="1463760"/>
            <a:ext cx="982800" cy="8985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оугольник 75"/>
          <p:cNvSpPr/>
          <p:nvPr/>
        </p:nvSpPr>
        <p:spPr>
          <a:xfrm>
            <a:off x="3711240" y="1595520"/>
            <a:ext cx="802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986"/>
                </a:solidFill>
                <a:latin typeface="Calibri"/>
              </a:rPr>
              <a:t>РКОД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Прямоугольник 76"/>
          <p:cNvSpPr/>
          <p:nvPr/>
        </p:nvSpPr>
        <p:spPr>
          <a:xfrm>
            <a:off x="3731040" y="1968480"/>
            <a:ext cx="286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986"/>
                </a:solidFill>
                <a:latin typeface="Calibri"/>
              </a:rPr>
              <a:t>Специализированное лечение ,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986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4986"/>
                </a:solidFill>
                <a:latin typeface="Calibri"/>
              </a:rPr>
              <a:t>ВМ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28" descr="http://cdn.iconfinder.net/data/icons/crystalproject/128x128/apps/mycomputer.png"/>
          <p:cNvPicPr/>
          <p:nvPr/>
        </p:nvPicPr>
        <p:blipFill>
          <a:blip r:embed="rId7"/>
          <a:stretch/>
        </p:blipFill>
        <p:spPr>
          <a:xfrm>
            <a:off x="7407360" y="442764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8" descr="http://cdn.iconfinder.net/data/icons/crystalproject/128x128/apps/mycomputer.png"/>
          <p:cNvPicPr/>
          <p:nvPr/>
        </p:nvPicPr>
        <p:blipFill>
          <a:blip r:embed="rId8"/>
          <a:stretch/>
        </p:blipFill>
        <p:spPr>
          <a:xfrm>
            <a:off x="6929280" y="265752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8" descr="http://cdn.iconfinder.net/data/icons/crystalproject/128x128/apps/mycomputer.png"/>
          <p:cNvPicPr/>
          <p:nvPr/>
        </p:nvPicPr>
        <p:blipFill>
          <a:blip r:embed="rId9"/>
          <a:stretch/>
        </p:blipFill>
        <p:spPr>
          <a:xfrm>
            <a:off x="6188040" y="1063800"/>
            <a:ext cx="579600" cy="579240"/>
          </a:xfrm>
          <a:prstGeom prst="rect">
            <a:avLst/>
          </a:prstGeom>
          <a:ln w="0">
            <a:noFill/>
          </a:ln>
        </p:spPr>
      </p:pic>
      <p:sp>
        <p:nvSpPr>
          <p:cNvPr id="663" name="Дуга 25"/>
          <p:cNvSpPr/>
          <p:nvPr/>
        </p:nvSpPr>
        <p:spPr>
          <a:xfrm>
            <a:off x="6951600" y="3206880"/>
            <a:ext cx="959040" cy="2698560"/>
          </a:xfrm>
          <a:custGeom>
            <a:avLst/>
            <a:gdLst/>
            <a:ahLst/>
            <a:rect l="l" t="t" r="r" b="b"/>
            <a:pathLst>
              <a:path stroke="0" w="958850" h="2698750">
                <a:moveTo>
                  <a:pt x="472870" y="126"/>
                </a:moveTo>
                <a:cubicBezTo>
                  <a:pt x="690478" y="-8249"/>
                  <a:pt x="882793" y="396964"/>
                  <a:pt x="941238" y="986993"/>
                </a:cubicBezTo>
                <a:cubicBezTo>
                  <a:pt x="956751" y="1143603"/>
                  <a:pt x="962081" y="1306815"/>
                  <a:pt x="956970" y="1468761"/>
                </a:cubicBezTo>
                <a:lnTo>
                  <a:pt x="479425" y="1349375"/>
                </a:lnTo>
                <a:lnTo>
                  <a:pt x="472870" y="126"/>
                </a:lnTo>
                <a:close/>
              </a:path>
              <a:path fill="none" w="958850" h="2698750">
                <a:moveTo>
                  <a:pt x="472870" y="126"/>
                </a:moveTo>
                <a:cubicBezTo>
                  <a:pt x="690478" y="-8249"/>
                  <a:pt x="882793" y="396964"/>
                  <a:pt x="941238" y="986993"/>
                </a:cubicBezTo>
                <a:cubicBezTo>
                  <a:pt x="956751" y="1143603"/>
                  <a:pt x="962081" y="1306815"/>
                  <a:pt x="956970" y="1468761"/>
                </a:cubicBezTo>
              </a:path>
            </a:pathLst>
          </a:custGeom>
          <a:noFill/>
          <a:ln w="93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Дуга 27"/>
          <p:cNvSpPr/>
          <p:nvPr/>
        </p:nvSpPr>
        <p:spPr>
          <a:xfrm>
            <a:off x="5703840" y="1317600"/>
            <a:ext cx="2362320" cy="4451400"/>
          </a:xfrm>
          <a:custGeom>
            <a:avLst/>
            <a:gdLst/>
            <a:ahLst/>
            <a:rect l="l" t="t" r="r" b="b"/>
            <a:pathLst>
              <a:path stroke="0" w="2362200" h="4451350">
                <a:moveTo>
                  <a:pt x="1165131" y="203"/>
                </a:moveTo>
                <a:cubicBezTo>
                  <a:pt x="1721205" y="-13966"/>
                  <a:pt x="2207194" y="704775"/>
                  <a:pt x="2332049" y="1725989"/>
                </a:cubicBezTo>
                <a:cubicBezTo>
                  <a:pt x="2393887" y="2231771"/>
                  <a:pt x="2359974" y="2762375"/>
                  <a:pt x="2236177" y="3226027"/>
                </a:cubicBezTo>
                <a:lnTo>
                  <a:pt x="1181100" y="2225675"/>
                </a:lnTo>
                <a:lnTo>
                  <a:pt x="1165131" y="203"/>
                </a:lnTo>
                <a:close/>
              </a:path>
              <a:path fill="none" w="2362200" h="4451350">
                <a:moveTo>
                  <a:pt x="1165131" y="203"/>
                </a:moveTo>
                <a:cubicBezTo>
                  <a:pt x="1721205" y="-13966"/>
                  <a:pt x="2207194" y="704775"/>
                  <a:pt x="2332049" y="1725989"/>
                </a:cubicBezTo>
                <a:cubicBezTo>
                  <a:pt x="2393887" y="2231771"/>
                  <a:pt x="2359974" y="2762375"/>
                  <a:pt x="2236177" y="3226027"/>
                </a:cubicBezTo>
              </a:path>
            </a:pathLst>
          </a:custGeom>
          <a:noFill/>
          <a:ln w="93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Дуга 28"/>
          <p:cNvSpPr/>
          <p:nvPr/>
        </p:nvSpPr>
        <p:spPr>
          <a:xfrm>
            <a:off x="6259680" y="1393920"/>
            <a:ext cx="1033200" cy="2786040"/>
          </a:xfrm>
          <a:custGeom>
            <a:avLst/>
            <a:gdLst/>
            <a:ahLst/>
            <a:rect l="l" t="t" r="r" b="b"/>
            <a:pathLst>
              <a:path stroke="0" w="1033462" h="2786063">
                <a:moveTo>
                  <a:pt x="516733" y="0"/>
                </a:moveTo>
                <a:cubicBezTo>
                  <a:pt x="802115" y="3"/>
                  <a:pt x="1033462" y="623684"/>
                  <a:pt x="1033462" y="1393032"/>
                </a:cubicBezTo>
                <a:lnTo>
                  <a:pt x="516731" y="1393032"/>
                </a:lnTo>
                <a:cubicBezTo>
                  <a:pt x="516732" y="928688"/>
                  <a:pt x="516732" y="464344"/>
                  <a:pt x="516733" y="0"/>
                </a:cubicBezTo>
                <a:close/>
              </a:path>
              <a:path fill="none" w="1033462" h="2786063">
                <a:moveTo>
                  <a:pt x="516733" y="0"/>
                </a:moveTo>
                <a:cubicBezTo>
                  <a:pt x="802115" y="3"/>
                  <a:pt x="1033462" y="623684"/>
                  <a:pt x="1033462" y="1393032"/>
                </a:cubicBezTo>
              </a:path>
            </a:pathLst>
          </a:custGeom>
          <a:noFill/>
          <a:ln w="93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586320" y="2946240"/>
            <a:ext cx="293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5880"/>
                </a:solidFill>
                <a:latin typeface="Calibri"/>
              </a:rPr>
              <a:t>Стационарные онкоотделения ЛП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4986"/>
                </a:solidFill>
                <a:latin typeface="Calibri"/>
              </a:rPr>
              <a:t>Специализированное лечение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9"/>
          <p:cNvSpPr/>
          <p:nvPr/>
        </p:nvSpPr>
        <p:spPr>
          <a:xfrm>
            <a:off x="770040" y="6119640"/>
            <a:ext cx="75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Calibri"/>
              </a:rPr>
              <a:t>Всего автоматизировано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90 </a:t>
            </a:r>
            <a:r>
              <a:rPr b="1" lang="ru-RU" sz="2000" spc="-1" strike="noStrike">
                <a:solidFill>
                  <a:srgbClr val="336699"/>
                </a:solidFill>
                <a:latin typeface="Calibri"/>
              </a:rPr>
              <a:t>рабочих мест в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79 </a:t>
            </a:r>
            <a:r>
              <a:rPr b="1" lang="ru-RU" sz="2000" spc="-1" strike="noStrike">
                <a:solidFill>
                  <a:srgbClr val="336699"/>
                </a:solidFill>
                <a:latin typeface="Calibri"/>
              </a:rPr>
              <a:t>ЛПУ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lowchart: Terminator 7"/>
          <p:cNvSpPr/>
          <p:nvPr/>
        </p:nvSpPr>
        <p:spPr>
          <a:xfrm>
            <a:off x="0" y="-652320"/>
            <a:ext cx="9144000" cy="131904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0" y="9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став и содержание рабо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рямоугольник 57"/>
          <p:cNvSpPr/>
          <p:nvPr/>
        </p:nvSpPr>
        <p:spPr>
          <a:xfrm>
            <a:off x="0" y="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Группа 1"/>
          <p:cNvGrpSpPr/>
          <p:nvPr/>
        </p:nvGrpSpPr>
        <p:grpSpPr>
          <a:xfrm>
            <a:off x="857160" y="2782800"/>
            <a:ext cx="7329600" cy="1281960"/>
            <a:chOff x="857160" y="2782800"/>
            <a:chExt cx="7329600" cy="1281960"/>
          </a:xfrm>
        </p:grpSpPr>
        <p:sp>
          <p:nvSpPr>
            <p:cNvPr id="672" name="Прямоугольник 389"/>
            <p:cNvSpPr/>
            <p:nvPr/>
          </p:nvSpPr>
          <p:spPr>
            <a:xfrm>
              <a:off x="1976400" y="2782800"/>
              <a:ext cx="6210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4986"/>
                  </a:solidFill>
                  <a:latin typeface="Calibri"/>
                </a:rPr>
                <a:t>Состояние подключения и работы с системой первичных онкологических кабинетов</a:t>
              </a:r>
              <a:endParaRPr b="1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3" name="Picture 3" descr="C:\Users\Ildar\Documents\My Dropbox\Презентация гриши\1.png"/>
            <p:cNvPicPr/>
            <p:nvPr/>
          </p:nvPicPr>
          <p:blipFill>
            <a:blip r:embed="rId1"/>
            <a:stretch/>
          </p:blipFill>
          <p:spPr>
            <a:xfrm>
              <a:off x="857160" y="2929680"/>
              <a:ext cx="1004760" cy="99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Расположение первичных онкологических кабинетов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Прямоугольник 249"/>
          <p:cNvSpPr/>
          <p:nvPr/>
        </p:nvSpPr>
        <p:spPr>
          <a:xfrm>
            <a:off x="689040" y="1044720"/>
            <a:ext cx="7765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Всего организованно ПОК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69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Диаграмма 1" descr=""/>
          <p:cNvPicPr/>
          <p:nvPr/>
        </p:nvPicPr>
        <p:blipFill>
          <a:blip r:embed="rId1"/>
          <a:stretch/>
        </p:blipFill>
        <p:spPr>
          <a:xfrm>
            <a:off x="182520" y="1420920"/>
            <a:ext cx="8747280" cy="52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Обучение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Прямоугольник 249"/>
          <p:cNvSpPr/>
          <p:nvPr/>
        </p:nvSpPr>
        <p:spPr>
          <a:xfrm>
            <a:off x="312840" y="1044720"/>
            <a:ext cx="85662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В период с 20.01.2011 по 26.01.2011 было проведено обучение врачей ПОК, согласно приказу №46 МЗ РТ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Все обученные получили комплект техники в составе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Монито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1967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67a7"/>
                </a:solidFill>
                <a:latin typeface="Arial"/>
              </a:rPr>
              <a:t>Принтер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Диаграмма 1" descr=""/>
          <p:cNvPicPr/>
          <p:nvPr/>
        </p:nvPicPr>
        <p:blipFill>
          <a:blip r:embed="rId1"/>
          <a:stretch/>
        </p:blipFill>
        <p:spPr>
          <a:xfrm>
            <a:off x="198360" y="1630440"/>
            <a:ext cx="8747280" cy="527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Не прошедшие обучение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85760" y="2543040"/>
          <a:ext cx="8772480" cy="3273480"/>
        </p:xfrm>
        <a:graphic>
          <a:graphicData uri="http://schemas.openxmlformats.org/drawingml/2006/table">
            <a:tbl>
              <a:tblPr/>
              <a:tblGrid>
                <a:gridCol w="8772480"/>
              </a:tblGrid>
              <a:tr h="611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 «Городская поликлиника № 7», Каза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5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 «Городская поликлиника № 9», Каза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 «Городская поликлиника № 20», Каза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7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 КДЦ «Авиастроительного района» поликлиника, Каза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4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АО «Городская клиническая больница № 12» поликлиника, Каза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b5914f"/>
                      </a:solidFill>
                    </a:lnL>
                    <a:lnR w="5760">
                      <a:solidFill>
                        <a:srgbClr val="b5914f"/>
                      </a:solidFill>
                    </a:lnR>
                    <a:lnT w="5760">
                      <a:solidFill>
                        <a:srgbClr val="b5914f"/>
                      </a:solidFill>
                    </a:lnT>
                    <a:lnB w="5760">
                      <a:solidFill>
                        <a:srgbClr val="b5914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15840" y="868320"/>
            <a:ext cx="9137520" cy="5989680"/>
          </a:xfrm>
          <a:prstGeom prst="rect">
            <a:avLst/>
          </a:prstGeom>
          <a:ln w="0">
            <a:noFill/>
          </a:ln>
        </p:spPr>
      </p:pic>
      <p:sp>
        <p:nvSpPr>
          <p:cNvPr id="686" name="Flowchart: Terminator 15"/>
          <p:cNvSpPr/>
          <p:nvPr/>
        </p:nvSpPr>
        <p:spPr>
          <a:xfrm>
            <a:off x="0" y="-749160"/>
            <a:ext cx="9144000" cy="1595160"/>
          </a:xfrm>
          <a:prstGeom prst="flowChartTerminator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13500000"/>
          </a:gradFill>
          <a:ln w="0">
            <a:noFill/>
          </a:ln>
          <a:effectLst>
            <a:outerShdw dist="63572" dir="4614486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563400" y="74520"/>
            <a:ext cx="831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ahoma"/>
              </a:rPr>
              <a:t>ПОК. ГИС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3" descr="C:\Users\Григорий\Downloads\map-citynames.png"/>
          <p:cNvPicPr/>
          <p:nvPr/>
        </p:nvPicPr>
        <p:blipFill>
          <a:blip r:embed="rId2"/>
          <a:stretch/>
        </p:blipFill>
        <p:spPr>
          <a:xfrm>
            <a:off x="-55440" y="739800"/>
            <a:ext cx="9199440" cy="6118200"/>
          </a:xfrm>
          <a:prstGeom prst="rect">
            <a:avLst/>
          </a:prstGeom>
          <a:ln w="0">
            <a:noFill/>
          </a:ln>
        </p:spPr>
      </p:pic>
      <p:sp>
        <p:nvSpPr>
          <p:cNvPr id="689" name="Прямоугольник 249"/>
          <p:cNvSpPr/>
          <p:nvPr/>
        </p:nvSpPr>
        <p:spPr>
          <a:xfrm>
            <a:off x="15840" y="6208560"/>
            <a:ext cx="7764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67a7"/>
                </a:solidFill>
                <a:latin typeface="Arial"/>
              </a:rPr>
              <a:t>* Данные о подключении получены от сотрудников ЛПУ, актуальны на 01.03.201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Григорий Лямкин</dc:creator>
  <dc:description/>
  <dc:language>en-US</dc:language>
  <cp:lastModifiedBy>Григорий</cp:lastModifiedBy>
  <dcterms:modified xsi:type="dcterms:W3CDTF">2011-03-02T06:23:50Z</dcterms:modified>
  <cp:revision>671</cp:revision>
  <dc:subject/>
  <dc:title>ЦАМИ</dc:title>
</cp:coreProperties>
</file>